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42E-0780-4C18-AA9B-EECAAB4B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2AA-A88E-4CC1-AB73-16C8080C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7779-3704-4D8E-B779-E2D7F877F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913-97B4-4A4B-82B7-B451CFF2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8F0-3151-45EF-8247-29EDED50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7DD-C2E9-46CB-A80F-4FDBEBE4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E35-669A-4CE6-988C-3BC7D17C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F15-463B-48D5-9A5F-5DED518E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19C-E85E-4ABF-B6E6-B7262D6C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B38-1105-4E55-8B31-B0DD1907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73B-EC05-4814-8AF1-920F8F5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509-1A9C-4F7D-91A1-650A533D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9A17-0064-4781-85F8-2F080EB710C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450072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4"/>
          <p:cNvSpPr/>
          <p:nvPr/>
        </p:nvSpPr>
        <p:spPr>
          <a:xfrm>
            <a:off x="6659640" y="4125960"/>
            <a:ext cx="1800000" cy="230328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280"/>
              <a:gd name="textAreaBottom" fmla="*/ 2215440 h 2303280"/>
            </a:gdLst>
            <a:ahLst/>
            <a:rect l="textAreaLeft" t="textAreaTop" r="textAreaRight" b="textAreaBottom"/>
            <a:pathLst>
              <a:path w="21600" h="27638">
                <a:moveTo>
                  <a:pt x="3600" y="0"/>
                </a:moveTo>
                <a:arcTo wR="3600" hR="3600" stAng="16200000" swAng="-5400000"/>
                <a:lnTo>
                  <a:pt x="0" y="24038"/>
                </a:lnTo>
                <a:arcTo wR="3600" hR="3600" stAng="10800000" swAng="-5400000"/>
                <a:lnTo>
                  <a:pt x="18000" y="27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dis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2340000" y="4149720"/>
            <a:ext cx="1800360" cy="2303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37">
                <a:moveTo>
                  <a:pt x="3600" y="0"/>
                </a:moveTo>
                <a:arcTo wR="3600" hR="3600" stAng="16200000" swAng="-5400000"/>
                <a:lnTo>
                  <a:pt x="0" y="24037"/>
                </a:lnTo>
                <a:arcTo wR="3600" hR="3600" stAng="10800000" swAng="-5400000"/>
                <a:lnTo>
                  <a:pt x="18000" y="276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What’s your PO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32400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y P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332000" y="1052640"/>
            <a:ext cx="6408720" cy="19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alibri"/>
              </a:rPr>
              <a:t>Opinion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724800" y="1197000"/>
            <a:ext cx="99036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108000" y="0"/>
            <a:ext cx="5040360" cy="8366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Game desig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ore games: http://game2learn.grenoble-inp.f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 rot="16200000">
            <a:off x="1380960" y="-1094040"/>
            <a:ext cx="631044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rcRect l="18886" t="11218" r="9009" b="59994"/>
          <a:stretch/>
        </p:blipFill>
        <p:spPr>
          <a:xfrm>
            <a:off x="-108000" y="125280"/>
            <a:ext cx="9232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pringboar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merica’s foreign policy is founded on good inten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ology will lead to the end of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hing about today’s music is origi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art phones should carry health warnings and be legal as of 1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ale of human organs should be legalized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ay couples should not be allowed to adopt childr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netically modified food is good for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’s 35-hour work week is a bad ide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ther we like it or not we are all fashion victim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 is one of the best places to work in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pitalism is more dangerous than communis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fter the age of 70 you should not be allowed to dr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e should bring retirement age down to 5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 exchange in a foreign country should be made obligatory for all stud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are too many regulations protecting consum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ligion has done more harm than go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okers should not be protected by the social security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death penalty should be reinstated in certain circumstanc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hildren with special needs should not be mainstreamed into the public school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French social welfare system is a failu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ame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56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and acquire opinion expr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hare ideas and be diplomatic and LIS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n points for yoursel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ut also for your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24000" y="23976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ut yourselves into groups of 3-4 stude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deal out the pack of cards you have been given (face dow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lace them in front of you (face up)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on the tabl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in front of every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ort them by colour/catego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encrypted-tbn1.gstatic.com/images?q=tbn:ANd9GcRKn-VL7Wpkn6blMlnkSzepatiU66_ps9Qma_PkEkKy4FSNRuqD"/>
          <p:cNvPicPr/>
          <p:nvPr/>
        </p:nvPicPr>
        <p:blipFill>
          <a:blip r:embed="rId2"/>
          <a:stretch/>
        </p:blipFill>
        <p:spPr>
          <a:xfrm>
            <a:off x="250920" y="26028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ose a topic of conversation-see « springboard statements »(last slid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Youngest player starts, then clockw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peak for +-3 mins on the topic OR until someone has used all their cards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nd wi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 – use a timer/smartph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unt your points (see next slide) When the first statement has been discussed , shuffle and deal out the cards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peat until all members have played = 1 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t up points and move to the next tab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epeat procedur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250920" y="179280"/>
            <a:ext cx="13636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int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ard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s are accumulated during the 2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ce the 2 rounds have been played each team hands back their cards to the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eam memory clash:  who can remember the most fixed express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will have 5 minutes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as a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to write down as many of the key expressions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179280" y="92160"/>
            <a:ext cx="1549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Use your expressions wisely – if someone uses a card illogically someone can CALL THEM OUT and a vote procee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If you lose the vote you lose 10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You may use opinion expression not on your cards to force another player to use a card that facilitates the flow of the game (or your remaining cards 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179280" y="212760"/>
            <a:ext cx="17287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m memo chall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the grids given to your (1 per tea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have 5 minutes to note down as many specific expressions you learnt-used during the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fter 5 minutes pass your sheet to the next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orrect expres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 point if the expression includes mistakes * ask your teacher to validate mistakes for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winning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tal your collective points won during the first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d 2 points per expression memorized and validated during the cor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 rot="16200000">
            <a:off x="1132560" y="-1412280"/>
            <a:ext cx="6551640" cy="93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1:11:12Z</dcterms:created>
  <dc:creator>KENWRIGHT John Francis</dc:creator>
  <dc:description/>
  <dc:language>en-US</dc:language>
  <cp:lastModifiedBy>KENWRIGHT John Francis</cp:lastModifiedBy>
  <cp:lastPrinted>2014-02-10T11:30:27Z</cp:lastPrinted>
  <dcterms:modified xsi:type="dcterms:W3CDTF">2014-02-23T22:33:03Z</dcterms:modified>
  <cp:revision>9</cp:revision>
  <dc:subject/>
  <dc:title>Présentation PowerPoint</dc:title>
</cp:coreProperties>
</file>