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35C2-3080-4E42-989F-7765EE55C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6D0E-805C-4D36-BDFB-125B7DE32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092F-CAF4-45FF-A63A-E20AC678D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D774-7A9D-4166-A364-124A98BF1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F46E-963C-4611-84A2-C80C4EB03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A6F1-8074-47FD-BC5E-EA866A4AB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F031-D2C1-4ED8-8164-365F4A0F2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A83A-EE7B-4FB0-8F4B-5031032CF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4B29-EF1C-4FCC-98CA-CD5F6E02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B9C4-B22C-4DC2-9395-3B1C88E1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07DE-86FE-490B-9ADD-C605FA12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B5C6-EE1B-4137-B9B6-E10C0DCB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30241-C551-4CC0-9B38-773E33AAC64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à coins arrondis 3"/>
          <p:cNvSpPr/>
          <p:nvPr/>
        </p:nvSpPr>
        <p:spPr>
          <a:xfrm>
            <a:off x="4500720" y="4149720"/>
            <a:ext cx="1800000" cy="2303640"/>
          </a:xfrm>
          <a:custGeom>
            <a:avLst/>
            <a:gdLst>
              <a:gd name="textAreaLeft" fmla="*/ 87840 w 1800000"/>
              <a:gd name="textAreaRight" fmla="*/ 1712160 w 1800000"/>
              <a:gd name="textAreaTop" fmla="*/ 87840 h 2303640"/>
              <a:gd name="textAreaBottom" fmla="*/ 2215800 h 2303640"/>
            </a:gdLst>
            <a:ahLst/>
            <a:rect l="textAreaLeft" t="textAreaTop" r="textAreaRight" b="textAreaBottom"/>
            <a:pathLst>
              <a:path w="21600" h="27642">
                <a:moveTo>
                  <a:pt x="3600" y="0"/>
                </a:moveTo>
                <a:arcTo wR="3600" hR="3600" stAng="16200000" swAng="-5400000"/>
                <a:lnTo>
                  <a:pt x="0" y="24042"/>
                </a:lnTo>
                <a:arcTo wR="3600" hR="3600" stAng="10800000" swAng="-5400000"/>
                <a:lnTo>
                  <a:pt x="18000" y="276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I ag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à coins arrondis 4"/>
          <p:cNvSpPr/>
          <p:nvPr/>
        </p:nvSpPr>
        <p:spPr>
          <a:xfrm>
            <a:off x="6659640" y="4125960"/>
            <a:ext cx="1800000" cy="2303280"/>
          </a:xfrm>
          <a:custGeom>
            <a:avLst/>
            <a:gdLst>
              <a:gd name="textAreaLeft" fmla="*/ 87840 w 1800000"/>
              <a:gd name="textAreaRight" fmla="*/ 1712160 w 1800000"/>
              <a:gd name="textAreaTop" fmla="*/ 87840 h 2303280"/>
              <a:gd name="textAreaBottom" fmla="*/ 2215440 h 2303280"/>
            </a:gdLst>
            <a:ahLst/>
            <a:rect l="textAreaLeft" t="textAreaTop" r="textAreaRight" b="textAreaBottom"/>
            <a:pathLst>
              <a:path w="21600" h="27638">
                <a:moveTo>
                  <a:pt x="3600" y="0"/>
                </a:moveTo>
                <a:arcTo wR="3600" hR="3600" stAng="16200000" swAng="-5400000"/>
                <a:lnTo>
                  <a:pt x="0" y="24038"/>
                </a:lnTo>
                <a:arcTo wR="3600" hR="3600" stAng="10800000" swAng="-5400000"/>
                <a:lnTo>
                  <a:pt x="18000" y="276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I disag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à coins arrondis 7"/>
          <p:cNvSpPr/>
          <p:nvPr/>
        </p:nvSpPr>
        <p:spPr>
          <a:xfrm>
            <a:off x="2340000" y="4149720"/>
            <a:ext cx="1800360" cy="2303640"/>
          </a:xfrm>
          <a:custGeom>
            <a:avLst/>
            <a:gdLst>
              <a:gd name="textAreaLeft" fmla="*/ 87840 w 1800360"/>
              <a:gd name="textAreaRight" fmla="*/ 1712520 w 1800360"/>
              <a:gd name="textAreaTop" fmla="*/ 87840 h 2303640"/>
              <a:gd name="textAreaBottom" fmla="*/ 2215800 h 2303640"/>
            </a:gdLst>
            <a:ahLst/>
            <a:rect l="textAreaLeft" t="textAreaTop" r="textAreaRight" b="textAreaBottom"/>
            <a:pathLst>
              <a:path w="21600" h="27637">
                <a:moveTo>
                  <a:pt x="3600" y="0"/>
                </a:moveTo>
                <a:arcTo wR="3600" hR="3600" stAng="16200000" swAng="-5400000"/>
                <a:lnTo>
                  <a:pt x="0" y="24037"/>
                </a:lnTo>
                <a:arcTo wR="3600" hR="3600" stAng="10800000" swAng="-5400000"/>
                <a:lnTo>
                  <a:pt x="18000" y="276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What’s your POV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à coins arrondis 8"/>
          <p:cNvSpPr/>
          <p:nvPr/>
        </p:nvSpPr>
        <p:spPr>
          <a:xfrm>
            <a:off x="324000" y="4149720"/>
            <a:ext cx="1800000" cy="2303640"/>
          </a:xfrm>
          <a:custGeom>
            <a:avLst/>
            <a:gdLst>
              <a:gd name="textAreaLeft" fmla="*/ 87840 w 1800000"/>
              <a:gd name="textAreaRight" fmla="*/ 1712160 w 1800000"/>
              <a:gd name="textAreaTop" fmla="*/ 87840 h 2303640"/>
              <a:gd name="textAreaBottom" fmla="*/ 2215800 h 2303640"/>
            </a:gdLst>
            <a:ahLst/>
            <a:rect l="textAreaLeft" t="textAreaTop" r="textAreaRight" b="textAreaBottom"/>
            <a:pathLst>
              <a:path w="21600" h="27642">
                <a:moveTo>
                  <a:pt x="3600" y="0"/>
                </a:moveTo>
                <a:arcTo wR="3600" hR="3600" stAng="16200000" swAng="-5400000"/>
                <a:lnTo>
                  <a:pt x="0" y="24042"/>
                </a:lnTo>
                <a:arcTo wR="3600" hR="3600" stAng="10800000" swAng="-5400000"/>
                <a:lnTo>
                  <a:pt x="18000" y="276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y PO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1332000" y="1052640"/>
            <a:ext cx="6408720" cy="1944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Calibri"/>
              </a:rPr>
              <a:t>Opinion car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6724800" y="1197000"/>
            <a:ext cx="990360" cy="9334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"/>
          <p:cNvSpPr/>
          <p:nvPr/>
        </p:nvSpPr>
        <p:spPr>
          <a:xfrm>
            <a:off x="108000" y="0"/>
            <a:ext cx="5040360" cy="836640"/>
          </a:xfrm>
          <a:prstGeom prst="rect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Game designed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John.kenwright@grenoble-inp.f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More games: http://game2learn.grenoble-inp.f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 rot="16200000">
            <a:off x="1380960" y="-1094040"/>
            <a:ext cx="6310440" cy="907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rcRect l="18886" t="11218" r="9009" b="59994"/>
          <a:stretch/>
        </p:blipFill>
        <p:spPr>
          <a:xfrm>
            <a:off x="-108000" y="125280"/>
            <a:ext cx="923292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pringboard stat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691920"/>
            <a:ext cx="82296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America’s foreign policy is founded on good intention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echnology will lead to the end of the worl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Nothing about today’s music is origina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Smart phones should carry health warnings and be legal as of 18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he sale of human organs should be legalized.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Gay couples should not be allowed to adopt childre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Genetically modified food is good for the worl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France’s 35-hour work week is a bad ide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Whether we like it or not we are all fashion victim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France is one of the best places to work in the worl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Capitalism is more dangerous than communis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After the age of 70 you should not be allowed to driv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We should bring retirement age down to 50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An exchange in a foreign country should be made obligatory for all student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here are too many regulations protecting consumer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Religion has done more harm than goo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Smokers should not be protected by the social security syste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he death penalty should be reinstated in certain circumstanc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Children with special needs should not be mainstreamed into the public school syste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he French social welfare system is a failur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Game objec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56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se and acquire opinion express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hare ideas and be diplomatic and LIST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Win points for yourself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but also for your team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s://encrypted-tbn1.gstatic.com/images?q=tbn:ANd9GcQMTS9cVKbWSBLMHxEY0fflsDo6Oa5enudMxqYxZkCezIY1mLH4"/>
          <p:cNvPicPr/>
          <p:nvPr/>
        </p:nvPicPr>
        <p:blipFill>
          <a:blip r:embed="rId1"/>
          <a:stretch/>
        </p:blipFill>
        <p:spPr>
          <a:xfrm>
            <a:off x="7451640" y="115920"/>
            <a:ext cx="1567080" cy="1476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324000" y="239760"/>
            <a:ext cx="122868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tep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Put yourselves into groups of 3-4 student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 u="sng">
                <a:solidFill>
                  <a:srgbClr val="000000"/>
                </a:solidFill>
                <a:uFillTx/>
                <a:latin typeface="Calibri"/>
              </a:rPr>
              <a:t>Evenly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 deal out the pack of cards you have been given (face down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Place them in front of you (face up) </a:t>
            </a:r>
            <a:r>
              <a:rPr b="1" lang="fr-FR" sz="3600" spc="-1" strike="noStrike" u="sng">
                <a:solidFill>
                  <a:srgbClr val="000000"/>
                </a:solidFill>
                <a:uFillTx/>
                <a:latin typeface="Calibri"/>
              </a:rPr>
              <a:t>on the table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 in front of everyon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Sort them by colour/category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https://encrypted-tbn1.gstatic.com/images?q=tbn:ANd9GcQMTS9cVKbWSBLMHxEY0fflsDo6Oa5enudMxqYxZkCezIY1mLH4"/>
          <p:cNvPicPr/>
          <p:nvPr/>
        </p:nvPicPr>
        <p:blipFill>
          <a:blip r:embed="rId1"/>
          <a:stretch/>
        </p:blipFill>
        <p:spPr>
          <a:xfrm>
            <a:off x="7451640" y="115920"/>
            <a:ext cx="1567080" cy="1476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https://encrypted-tbn1.gstatic.com/images?q=tbn:ANd9GcRKn-VL7Wpkn6blMlnkSzepatiU66_ps9Qma_PkEkKy4FSNRuqD"/>
          <p:cNvPicPr/>
          <p:nvPr/>
        </p:nvPicPr>
        <p:blipFill>
          <a:blip r:embed="rId2"/>
          <a:stretch/>
        </p:blipFill>
        <p:spPr>
          <a:xfrm>
            <a:off x="250920" y="260280"/>
            <a:ext cx="139536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Getting star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hoose a topic of conversation-see « springboard statements »(last slide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Youngest player starts, then clockwi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peak for +-3 mins on the topic OR until someone has used all their cards (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and wins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) – use a timer/smartpho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ount your points (see next slide) When the first statement has been discussed , shuffle and deal out the cards agai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Repeat until all members have played = 1 roun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Tot up points and move to the next tabl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Repeat procedure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ttps://encrypted-tbn1.gstatic.com/images?q=tbn:ANd9GcQMTS9cVKbWSBLMHxEY0fflsDo6Oa5enudMxqYxZkCezIY1mLH4"/>
          <p:cNvPicPr/>
          <p:nvPr/>
        </p:nvPicPr>
        <p:blipFill>
          <a:blip r:embed="rId1"/>
          <a:stretch/>
        </p:blipFill>
        <p:spPr>
          <a:xfrm>
            <a:off x="7451640" y="115920"/>
            <a:ext cx="1567080" cy="1476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" descr=""/>
          <p:cNvPicPr/>
          <p:nvPr/>
        </p:nvPicPr>
        <p:blipFill>
          <a:blip r:embed="rId2"/>
          <a:stretch/>
        </p:blipFill>
        <p:spPr>
          <a:xfrm>
            <a:off x="250920" y="179280"/>
            <a:ext cx="1363680" cy="13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oints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2 points per card us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oints are accumulated during the 2 rou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ce the 2 rounds have been played each team hands back their cards to the teach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eam memory clash:  who can remember the most fixed express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You will have 5 minutes </a:t>
            </a: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as a team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to write down as many of the key expressions as possib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s://encrypted-tbn1.gstatic.com/images?q=tbn:ANd9GcQMTS9cVKbWSBLMHxEY0fflsDo6Oa5enudMxqYxZkCezIY1mLH4"/>
          <p:cNvPicPr/>
          <p:nvPr/>
        </p:nvPicPr>
        <p:blipFill>
          <a:blip r:embed="rId1"/>
          <a:stretch/>
        </p:blipFill>
        <p:spPr>
          <a:xfrm>
            <a:off x="7451640" y="115920"/>
            <a:ext cx="1567080" cy="1476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" descr=""/>
          <p:cNvPicPr/>
          <p:nvPr/>
        </p:nvPicPr>
        <p:blipFill>
          <a:blip r:embed="rId2"/>
          <a:stretch/>
        </p:blipFill>
        <p:spPr>
          <a:xfrm>
            <a:off x="179280" y="92160"/>
            <a:ext cx="1549440" cy="15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Adv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70c0"/>
                </a:solidFill>
                <a:latin typeface="Calibri"/>
              </a:rPr>
              <a:t>Use your expressions wisely – if someone uses a card illogically someone can CALL THEM OUT and a vote proceed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70c0"/>
                </a:solidFill>
                <a:latin typeface="Calibri"/>
              </a:rPr>
              <a:t>If you lose the vote you lose 10 poi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70c0"/>
                </a:solidFill>
                <a:latin typeface="Calibri"/>
              </a:rPr>
              <a:t>You may use opinion expression not on your cards to force another player to use a card that facilitates the flow of the game (or your remaining cards .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https://encrypted-tbn1.gstatic.com/images?q=tbn:ANd9GcQMTS9cVKbWSBLMHxEY0fflsDo6Oa5enudMxqYxZkCezIY1mLH4"/>
          <p:cNvPicPr/>
          <p:nvPr/>
        </p:nvPicPr>
        <p:blipFill>
          <a:blip r:embed="rId1"/>
          <a:stretch/>
        </p:blipFill>
        <p:spPr>
          <a:xfrm>
            <a:off x="7451640" y="115920"/>
            <a:ext cx="1567080" cy="1476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" descr=""/>
          <p:cNvPicPr/>
          <p:nvPr/>
        </p:nvPicPr>
        <p:blipFill>
          <a:blip r:embed="rId2"/>
          <a:stretch/>
        </p:blipFill>
        <p:spPr>
          <a:xfrm>
            <a:off x="179280" y="212760"/>
            <a:ext cx="172872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am memo chall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se the grids given to your (1 per team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You have 5 minutes to note down as many specific expressions you learnt-used during the ga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fter 5 minutes pass your sheet to the next grou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2 points per correct express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1 point if the expression includes mistakes * ask your teacher to validate mistakes for yo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he winning t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otal your collective points won during the first rou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dd 2 points per expression memorized and validated during the corre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 rot="16200000">
            <a:off x="1132560" y="-1412280"/>
            <a:ext cx="6551640" cy="932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0T11:11:12Z</dcterms:created>
  <dc:creator>KENWRIGHT John Francis</dc:creator>
  <dc:description/>
  <dc:language>en-US</dc:language>
  <cp:lastModifiedBy>KENWRIGHT John Francis</cp:lastModifiedBy>
  <cp:lastPrinted>2014-02-10T11:30:27Z</cp:lastPrinted>
  <dcterms:modified xsi:type="dcterms:W3CDTF">2014-02-23T22:33:03Z</dcterms:modified>
  <cp:revision>9</cp:revision>
  <dc:subject/>
  <dc:title>Présentation PowerPoint</dc:title>
</cp:coreProperties>
</file>